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2C8-01E5-4882-A8DA-59625D60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840-1871-476A-B272-EDF21911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F73-4F84-44C7-98DA-99B608A8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F84-605D-41EE-B9D0-F25CB9AD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4E75-F976-4D19-A4DF-B3E15351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D0A8-E923-44F0-B0CA-B83D48D9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773A-FE3D-4F5D-90CB-C7F071DC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D9EF-DDC9-40CB-8F42-8A5B930A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8EB8-5067-459F-A9EC-60BFA54D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816E-13AE-480A-A9F0-5873BE6E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EF9A-8723-44BB-9AC4-EF84EFF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4DD-AF23-4466-A1BB-AAB6E267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4446-BBEA-4155-9CC5-203E28E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5908-C7D1-4453-96D1-B6B9E16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6352-B43E-447F-9A64-39068456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7ADA-21DA-4F7F-9FE0-AF3DAD67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355F-9748-4719-84C5-42813A3F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80B-C50E-4ED7-8E05-12790507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49D-9043-479B-A6EA-CBC5EA63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968-E3F6-439A-B9A5-C1D03973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692-9DB3-43AA-84B7-3F2D3938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B8D-6430-427E-BC99-293C72ED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C07-075E-468E-89CF-15815CB7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413-38F5-44DD-A3F7-3488104B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1D4E-CC0C-47FC-A7ED-7216036FBC9C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E39C-DFFB-480F-A1B0-508207921D0D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22419"/>
          <a:stretch/>
        </p:blipFill>
        <p:spPr>
          <a:xfrm>
            <a:off x="1676520" y="0"/>
            <a:ext cx="6011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rebuchet MS"/>
              </a:rPr>
              <a:t>War Communism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2037" t="18859" r="1633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What was War Communism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economic system that existed from 1918 to 192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roduced by Lenin to combat the economic problems brought on by civil w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mbination of emergency measures and socialist belief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ttempted to abolish money as a means of exch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od and most commodities were ration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0" r="6249" b="0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Nationalization (run by the state, government decides what is produced) of land, banks, shipping &amp; distribution of food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overnment had the power to force men and women to do work in certain indust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Discipline for workers was strict: strikers could be sho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Military-like control of railway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Soldiers were sent to requisition gr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War Communism took away a lot of the freedoms the people had gained in the October Revolu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873160" cy="2041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Effects of War Communism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asants refused to hand over grain, and grew only enough food for themselves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 industrial cities were starved of foo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lnutrition was common: 3.5 million people died of typhoid alo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orkers moved to the countryside, where there was a higher chance of getting foo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tween 1916-1920, cities lost 33% of population to the countrys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umber of those working in factories and mines dropped by 50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38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uble collapsed and was replaced by a system of barter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y 1921 the heavy industry had fallen to output levels 20% of those in 191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economy was in ruins, inflation out of contro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od requisitioning, combined with the effects of 7 years of war and a severe drought contributed to a famine in 1921 that caused between 3 and 10 million death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y were convinced that their leaders were right and everything  was the Whites’ and international capitalists’ faul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3880" y="12949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easant uprisings 1920-2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yone involved in riots, workers’ strikes and demonstrations were arres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ded with the Kronstadt rebellion in 192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t the end of War Communism, Lenin introduced the NE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48520" y="304920"/>
            <a:ext cx="2738160" cy="426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6019920" y="3581280"/>
            <a:ext cx="53316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6:37:57Z</dcterms:created>
  <dc:creator>Tina Kanagaratnam</dc:creator>
  <dc:description/>
  <dc:language>en-US</dc:language>
  <cp:lastModifiedBy>Tina Kanagaratnam</cp:lastModifiedBy>
  <cp:lastPrinted>1904-01-01T00:00:00Z</cp:lastPrinted>
  <dcterms:modified xsi:type="dcterms:W3CDTF">2007-11-07T03:34:14Z</dcterms:modified>
  <cp:revision>8</cp:revision>
  <dc:subject/>
  <dc:title>War Communism</dc:title>
</cp:coreProperties>
</file>